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0.wmf" ContentType="image/x-wmf"/>
  <Override PartName="/ppt/media/image25.png" ContentType="image/png"/>
  <Override PartName="/ppt/media/image7.jpeg" ContentType="image/jpeg"/>
  <Override PartName="/ppt/media/image5.wmf" ContentType="image/x-wmf"/>
  <Override PartName="/ppt/media/image4.wmf" ContentType="image/x-wmf"/>
  <Override PartName="/ppt/media/image2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wmf" ContentType="image/x-wmf"/>
  <Override PartName="/ppt/media/image1.png" ContentType="image/png"/>
  <Override PartName="/ppt/media/image23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4D45-B1F1-42E1-93C1-E019AEEB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5F18-F601-4A41-87A3-4B9897A3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F49-303C-4EB8-A3D6-928606FE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5A6-1EBA-479F-9341-B6EDB458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0F05-9807-4865-BE62-F191E7E2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CFD-F395-47D3-A9E5-3641E751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D3C-D786-4D7E-A447-D2DA7FE0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22D3-E038-4373-83D6-CF16F243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662-FFDC-4E68-8127-801C59F3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BDD6-01EF-4774-8C6B-09249870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02E2-B742-484B-9799-9CD88BDC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D77-1472-4012-94AE-EE2D6665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18 March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S.Rango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24A5-A04D-47A9-9E14-90A85906B285}" type="slidenum">
              <a:rPr b="1" lang="en-US" sz="16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3360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I2002b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1872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761760" cy="701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914400" y="380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79440" y="42228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RN PROTOTYPE FO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UFACT PROJ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verview of mechanical design &amp; constru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859-5271-47FF-A7C0-E558C9F1E6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ter cooling circui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1066680"/>
          <a:ext cx="914400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21E9-71F5-46B4-BA55-9F36B9AFC8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83808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oice of the all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A 6082-T6 / (AlMgSi1) is an acceptable compromise between the 4 main characteristic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chanical proper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lding ab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ctrical proper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istance to corro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F4D-BF33-456B-92B5-EDA1147476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.B. Weld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prototype is entirely welded in the CERN workshop by Electron Beam Weld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dvantages of EBW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ll adapted to thin wall thickness piece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ss deformations due to the narrow smelting bath (total angle: about 30</a:t>
            </a:r>
            <a:r>
              <a:rPr b="0" lang="en-US" sz="1200" spc="-1" strike="noStrike" baseline="7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cellent homogeneity (vacuum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hort transition area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nimum loss of initial mechanical characteristics (no more than 15% to 20%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advantages of EBW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lay generally longe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er precision required for the junctio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er cost (between 20% and 50% more, according the design and dimension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1995-E74C-4E3B-A6DB-9A705407A3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BW – CERN 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EBW%20installation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12520" y="38862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Vacuum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05360" y="190512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eam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7433-1448-445C-82F9-9BFAFA1042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chanical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in featur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ying in conventional mechanical technolog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ckness of the walls calculated for a minimum absorp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rovement of the cooling efficienc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 cost radiation hardness insul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ighlight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on of a double ski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rayers directly feed by an annular low pressure water fil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oling circuit shared out for the waist z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ner waist exchange surface magnified by a factor 2 (round shape inner screw threa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ramic balls used as spacers between inner conductor and double skin to ensure the concentricity of the both component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of a glass disc insulator.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32D-01C3-4078-8FC2-B3417BE482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.B. Weld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mage%202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10280" cy="5000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62520" y="1523880"/>
            <a:ext cx="1600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F5D5-1CDA-43A9-83F3-3AB81CAC4F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%201" descr=""/>
          <p:cNvPicPr/>
          <p:nvPr/>
        </p:nvPicPr>
        <p:blipFill>
          <a:blip r:embed="rId1"/>
          <a:stretch/>
        </p:blipFill>
        <p:spPr>
          <a:xfrm>
            <a:off x="3352680" y="533520"/>
            <a:ext cx="3970440" cy="5670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080" y="1360440"/>
            <a:ext cx="19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gnification: x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457200"/>
            <a:ext cx="175284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609480"/>
            <a:ext cx="45720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457200"/>
            <a:ext cx="2971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11000" y="3276720"/>
            <a:ext cx="19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gnification: x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7360" y="5029200"/>
            <a:ext cx="219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gnification: x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der polarized 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52800" y="57913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ERN/EST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.B. Welding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466-DFD9-4253-80FC-EA93D5FF3B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ngitudinal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990720"/>
          <a:ext cx="9144000" cy="520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429000" y="19051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21337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Glass insulator di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2209680"/>
            <a:ext cx="761760" cy="15264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52160" y="205740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Outer 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350532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Inner 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2286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3276720"/>
            <a:ext cx="75960" cy="304560"/>
          </a:xfrm>
          <a:prstGeom prst="upArrow">
            <a:avLst>
              <a:gd name="adj1" fmla="val 50000"/>
              <a:gd name="adj2" fmla="val 10023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1640" y="556272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Water out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5791320"/>
            <a:ext cx="685800" cy="152280"/>
          </a:xfrm>
          <a:prstGeom prst="leftArrow">
            <a:avLst>
              <a:gd name="adj1" fmla="val 50000"/>
              <a:gd name="adj2" fmla="val 1125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0560" y="1523880"/>
            <a:ext cx="212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Electrical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to the strip-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28600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33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9800" y="10666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Water inlets (circuit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1143000"/>
            <a:ext cx="304560" cy="152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72428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Water inl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(circuit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4952880"/>
            <a:ext cx="533160" cy="152640"/>
          </a:xfrm>
          <a:prstGeom prst="rightArrow">
            <a:avLst>
              <a:gd name="adj1" fmla="val 50000"/>
              <a:gd name="adj2" fmla="val 8732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505320"/>
            <a:ext cx="533160" cy="228600"/>
          </a:xfrm>
          <a:custGeom>
            <a:avLst/>
            <a:gdLst>
              <a:gd name="textAreaLeft" fmla="*/ 83160 w 533160"/>
              <a:gd name="textAreaRight" fmla="*/ 466560 w 5331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137160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33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280" y="286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8496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79840" y="171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415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990720"/>
          <a:ext cx="3143160" cy="255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990720"/>
                    <a:ext cx="3143160" cy="25527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971800" y="3809880"/>
          <a:ext cx="3333600" cy="23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3809880"/>
                    <a:ext cx="3333600" cy="23828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257800" y="1295280"/>
          <a:ext cx="3386160" cy="223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1295280"/>
                    <a:ext cx="3386160" cy="223380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1BB-BF49-4197-83C4-227E44FE47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28600" y="1295280"/>
          <a:ext cx="876312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76312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5562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ner conductor connection fl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501C-CA59-467F-8B01-6454B080B8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Drilling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38320" y="3809520"/>
            <a:ext cx="2590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rill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peration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ial ho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7868-09B1-42D0-8C56-A7446E263F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n parameters &amp; dimen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cooling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terial &amp; Wel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chanical desi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truction phases (CERN worksho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nimum life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sts forese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C94-C1E8-4D4C-802B-F781863500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InnerCond3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5333760"/>
            <a:ext cx="670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ound shape thread inside the wa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7ADE-29AA-4C43-9A2F-A4CCFD0F88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poussage1" descr=""/>
          <p:cNvPicPr/>
          <p:nvPr/>
        </p:nvPicPr>
        <p:blipFill>
          <a:blip r:embed="rId1"/>
          <a:stretch/>
        </p:blipFill>
        <p:spPr>
          <a:xfrm>
            <a:off x="0" y="1028880"/>
            <a:ext cx="6781680" cy="50860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248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934320" y="312372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nching of the outer sk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Repoussage15" descr=""/>
          <p:cNvPicPr/>
          <p:nvPr/>
        </p:nvPicPr>
        <p:blipFill>
          <a:blip r:embed="rId2"/>
          <a:stretch/>
        </p:blipFill>
        <p:spPr>
          <a:xfrm>
            <a:off x="0" y="99072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6F2D-94F8-4496-90B5-4E90301731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GlassInsulator%20disc" descr=""/>
          <p:cNvPicPr/>
          <p:nvPr/>
        </p:nvPicPr>
        <p:blipFill>
          <a:blip r:embed="rId1"/>
          <a:stretch/>
        </p:blipFill>
        <p:spPr>
          <a:xfrm>
            <a:off x="0" y="11430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05520" y="46483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las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sulator dis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E2C-DBB6-4DA5-8582-2BB70C5AFF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48160" y="37339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ont side assemb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FrontSide%20Assembly" descr=""/>
          <p:cNvPicPr/>
          <p:nvPr/>
        </p:nvPicPr>
        <p:blipFill>
          <a:blip r:embed="rId1"/>
          <a:stretch/>
        </p:blipFill>
        <p:spPr>
          <a:xfrm>
            <a:off x="0" y="13716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E06A-42A6-4CE0-AA73-B297CA2949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38680" y="335268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ner condu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Inner%20Assembly4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4172040" cy="556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F58-F05A-4C6F-B3FF-E69163E465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77120" y="3200040"/>
            <a:ext cx="2666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ner and outer sk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InnerSkin" descr=""/>
          <p:cNvPicPr/>
          <p:nvPr/>
        </p:nvPicPr>
        <p:blipFill>
          <a:blip r:embed="rId1"/>
          <a:stretch/>
        </p:blipFill>
        <p:spPr>
          <a:xfrm>
            <a:off x="0" y="1371600"/>
            <a:ext cx="6324480" cy="4743360"/>
          </a:xfrm>
          <a:prstGeom prst="rect">
            <a:avLst/>
          </a:prstGeom>
          <a:ln w="0">
            <a:noFill/>
          </a:ln>
        </p:spPr>
      </p:pic>
      <p:pic>
        <p:nvPicPr>
          <p:cNvPr id="149" name="Outer%20pieces" descr=""/>
          <p:cNvPicPr/>
          <p:nvPr/>
        </p:nvPicPr>
        <p:blipFill>
          <a:blip r:embed="rId2"/>
          <a:stretch/>
        </p:blipFill>
        <p:spPr>
          <a:xfrm>
            <a:off x="0" y="137160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D034-BE05-43C6-95D3-F87E73FDBD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6248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71840" y="2895480"/>
            <a:ext cx="2971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herical blind holes for ceramic balls spac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Spacing%20Balls" descr=""/>
          <p:cNvPicPr/>
          <p:nvPr/>
        </p:nvPicPr>
        <p:blipFill>
          <a:blip r:embed="rId1"/>
          <a:stretch/>
        </p:blipFill>
        <p:spPr>
          <a:xfrm>
            <a:off x="0" y="1447920"/>
            <a:ext cx="6172200" cy="462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66CA-B2F8-431B-A528-37DED54846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fetime 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tigue is the major design issu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llel study is going 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SYS calculation of stresses and fatigue analysis (multi-axial stress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rst static calculations give tensile stress of 14.8 Mpa (in the most critical section of the waist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ing  that the limit of fatigue for 10</a:t>
            </a:r>
            <a:r>
              <a:rPr b="0" lang="en-US" sz="1400" spc="-1" strike="noStrike" baseline="8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ractions is 100 Mpa, the survival of the prototype for 2 x 10</a:t>
            </a:r>
            <a:r>
              <a:rPr b="0" lang="en-US" sz="1400" spc="-1" strike="noStrike" baseline="66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ulses* (required value) does not seem unrealisti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Corresponding to 6 weeks of working operation at 50H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A00033%5B1%5D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4724640" cy="31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5DF-F88F-4BA6-9EC6-01C5AB2F64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sts fores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tep 1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30 kA / 1 Hz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ay 200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bration experimental test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isplacement capacitive sensor – W. Cooseman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RN/SU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tep 1b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Magnetic measurement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ay 200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tep 1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5000A Dc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July 200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t load transfer t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tep 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300 kA / 1 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tep 3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300 kA / 50 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 rot="21123000">
            <a:off x="2210040" y="4571640"/>
            <a:ext cx="3940200" cy="1595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OSTP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BUDGET RESTRICTION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440-474E-469A-A259-AD011515B0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,  if phases of tests 2 and 3 are delayed or cancelled, step 1a, 1b and 1c allow by extrapolation to confirm important results about the reliability and the transfer of the heat loa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vertheless, a lot of questions are still without answers, in parti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llation of the target in the wai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rn exchan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chanical support fr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tc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F778-5B74-4443-BA28-F4B516569E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orn prototype developed in the frame of the NUFACT Target-Collector activ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in B.  -  Gilardoni S.  -  Grawer G  -  Haseroth H.  -  Maire G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ugain J-M.  -  Rangod S.  -  Ravn H.  -  Sievers P.  -  Voelker F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ference: CERN-NUFACT Note 8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4CB6-5AE0-425A-90E1-568C9A9260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360" y="9903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ify the reliability of 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300kA-50Hz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rn built according the conventional technique of pulsed horns and providing a minimum lifetime of one month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4595-210E-4983-80DF-C104FD4956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posed 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horn, subject of the presentation, could be the inner component of a two stages coaxial horns sys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econd outer horn could complete the focusing effect of the first inner o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is second outer horn is not considered in this phase of the projec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3520" y="1433520"/>
          <a:ext cx="769608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33520"/>
                    <a:ext cx="769608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286-0144-49AE-85F7-EADA88B163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in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us of the wai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ak curr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0 k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etition r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 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lse leng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ltage on the hor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200 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ms current in the hor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4.5 k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wer dissipation (by current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9 k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kin dep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25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18D-1F06-4039-AB74-70EC5B88FE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5638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m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2590920"/>
            <a:ext cx="7848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03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er diame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42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 diameter (electrical connection flange)  895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e waist apertu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56 m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ist outer diame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8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erage waist wall thickn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6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uble skin thickn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2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310-0D2F-47D9-A530-5ABAA044FB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863640"/>
          <a:ext cx="9144000" cy="52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63640"/>
                    <a:ext cx="91440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mensions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3429000"/>
            <a:ext cx="762120" cy="6858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623-8BD2-4E11-97F1-D7D1157FF0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ter cooling circui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an power dissipation in the horn by current (kW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ter flow needed wit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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W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0" lang="en-US" sz="1200" spc="-1" strike="noStrike" baseline="8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    (l/mn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imum allowable water flow in the horn  (l/mn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king water pressure (bar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1-1.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ected temperature increase on the neck (</a:t>
            </a:r>
            <a:r>
              <a:rPr b="0" lang="en-US" sz="1200" spc="-1" strike="noStrike" baseline="8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wC1/PwC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Symath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wC1: Power extracted through the annular chann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wC2: Power extracted with showers from sprayer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523880"/>
          <a:ext cx="815328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15328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D0F-6EB3-4409-AC2B-9D686B6A50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15:44:13Z</dcterms:created>
  <dc:creator>rangod</dc:creator>
  <dc:description/>
  <dc:language>en-US</dc:language>
  <cp:lastModifiedBy>wallon</cp:lastModifiedBy>
  <dcterms:modified xsi:type="dcterms:W3CDTF">2002-12-17T14:42:53Z</dcterms:modified>
  <cp:revision>90</cp:revision>
  <dc:subject/>
  <dc:title>PowerPoint Presentation</dc:title>
</cp:coreProperties>
</file>